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B7EC-05D9-4C06-9B9F-F38EE5EB9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63D240-B304-41D5-90D5-FBDCDDAE753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98D0D-08B3-4894-A2B8-6DBE7D83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47D68-8677-4AD9-9085-49A09F99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23CDC-37A9-4F01-8B71-F2BC2DD6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25380-9DE1-404B-9CE8-5421A59D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F2D8-B3F9-425D-8B1F-52622A89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DA45-47B7-420D-A2AB-555A7D18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791A-5CD2-4629-AC81-D5D006D0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ADA1-6572-49A1-9E81-C462132E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A376-1A7D-4578-85FA-961D779C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C0CC-9FAE-4244-942B-10A92C07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52E7-0FFF-4E45-8DB7-03DD0310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69681-BF8B-45DE-A904-53C1EC7B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F201-847F-4538-A90B-C32C9C94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56F5-1C78-428C-8023-1D162836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AD75-60B5-4415-B200-AF0C5C8B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45F1-8C9D-4662-9BD8-A9266984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A86C-2462-4A51-92C9-AC94B58A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D0FEF-701B-495E-ACBA-A6CB23A7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8153D-7F83-4BB7-8E8F-F5D9E133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2D89E-A41B-43CB-867E-17DD4960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B35E7-9770-4960-87FA-E3335677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954A5-D4AC-42EB-A95A-A3D518EB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2B325-2DD3-46BE-9043-5D8D1DE8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A9D9F-39CF-45CE-8EEB-B646072A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D794-1D9B-4342-92B5-F970247ABA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4114-D5A1-49F2-A9E1-65F7D39637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basis for evaluating 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licy effectiveness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Technical ef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llocative ef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Dynamic ef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Non-market social val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Overall, focus in this area 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ocative and dynamic efficienc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creasing emphasis in some market segments on non-market social valu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ffects on technical efficiency should always also be under consider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rvey of current U.S. policy mix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Not possible to characterize the evolution of policy over time as beco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re publicly ba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re privately ba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x keeps changing in different ar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Look at policies using the framework discussed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od safety attribu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icy rationale is market failure due t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adequate inform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ternal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icy instrumen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Primarily direct regul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dato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t with shift in emphasis to more private responsibility—preventative meas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jor food safety agencies/polic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ood Safety and Inspection Service (FSIS)—USD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t, poultry, and processed egg produ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tinuous insp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CCP for meat and poult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ood and Drug Administration (FD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 other foo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iodic inspe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CCP for seafood and jui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utrition quality attribu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icy rationale is market failure due t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adequate inform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ternal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icy instrumen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Direct regulation and oversight/support of marke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datory labeling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luntary lab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jor nutrition quality agencies/polic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DA &amp; US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trition lab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ype VI labeling of nutrition content in nutrition facts pan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ype V labeling of nutrient content and health clai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versight of other voluntary clai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ducation on dietary guidelines &amp; healthy ea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US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ignment of programs such as WIC and School Lunch/Breakfast with dietary guidelin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nsory/organoleptic &amp; value/function attribu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icy rationale is market failure due t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adequate inform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nopolistic competition and concentrated market pow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icy instrumen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Direct regulation and oversight/support of marke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datory reg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datory Type VI label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luntary certif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luntary Type V label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jor sensory/organoleptic &amp; value/function agencies and polic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US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y broad range of progr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, grades and standards; quality grade marks for fruits, vegetables,  and mea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oad range of progr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, standards of identity, quantity, and fi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cess attribu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icy rationales ar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rket failure due to inadequate inform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mote non-market social val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icy instrument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Direct regulation and oversight/support of marke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datory Type VI lab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datory certification if using some voluntary claims (e.g., organi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luntary certification and labeling (Type V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jor process attribute agencies/polic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Agricultural Marketing Service (AMS)—USD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y broad range of programs, for exampl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untry of origin lab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c standards and lab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udit and accreditation progr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DA Process Verified Progr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HALLENGES IN CHOOSING THE MIX OF PUBLIC AND PRIVATE STANDARDS FOR FOOD QUALITY ASSURANC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lie A. Casw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ational pattern of standards for process attribut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For the range of process attribute oriented polic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fficult to identify a level of market fail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at consistently propels an issue forward strongly enoug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federal marketing policy to be viewed as warran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Lobbying by interested parties in support of government action may be the strongest factor in establishing these polic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ad map for policy evalu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Outline the quality attributes or external indicators and cues the policy is address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d alternative suites of attributes, cues, and indicators that it might addres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rticulate policy rationa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Define policy instrumen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cluding responsibilities for standard setting, certification to standards, and label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valuate policy perform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tions for adjusting federal food quality assurance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Evaluation of existing and proposed polici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determine what quality assurance issues related t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ich attributes should be address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what policy instru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ocus 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isks (public health, market, trade, consumer perception, social sensitivity) the policy would be address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enefits and costs of taking or not taking a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act on performance crite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ystematic approac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8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Could focus limited governmental resources on important pro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gislators, administrations, and agency personnel could respond systematical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calls for government action in markets for food quality attribute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panies, consumers, and citizens could evaluate what types of quality assura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re suited to first-, second-, and third-party activities versus government policy or hybrid syste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ederal government faces challenges in choosing food quality polici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Large volume of domestic and international agricultural and food produ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Range of quality attributes of interest 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overnment agenc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ly chain participa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um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rivate sector/third party assurance systems are becoming increasingly sophistica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ramework for characterizing and evaluating federal polic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Based 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Quality attribute targe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tionales for government policies and progr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jor type of policy instrument u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rect regulation: Setting and enforcing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mandator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minimum standards and/or labeling requirem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versight/support of markets: S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ting, overseeing, and/or guiding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voluntar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standards and/or label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ses for evaluating  policy effective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ich quality attributes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re targeted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3880" y="1752480"/>
          <a:ext cx="6324840" cy="4572000"/>
        </p:xfrm>
        <a:graphic>
          <a:graphicData uri="http://schemas.openxmlformats.org/drawingml/2006/table">
            <a:tbl>
              <a:tblPr/>
              <a:tblGrid>
                <a:gridCol w="6324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trinsic Quality Attribut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.   Food safety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e.g., foodborne pathogens, pesticide residu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514"/>
                        </a:buClr>
                        <a:buSzPct val="70000"/>
                        <a:buFont typeface="Garamond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utrition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3.   Sensory/organoletic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e.g., taste and tenderness, color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4.   Value/function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e.g., compositional integrity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.   Proces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e.g., animal welfare, organic, use of GMO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are the economic rationales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or public policy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66680" y="1752480"/>
          <a:ext cx="6858000" cy="441972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ddress Unsatisfactory Performance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.   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Allocative inefficiency—market failure due to: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Inadequate information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9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More likely with credence attributes, less likely with experience and search attributes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92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Monopolistic competition and concentrated market power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92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Extern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.    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Failure to meet non-market social valu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5800" y="345600"/>
            <a:ext cx="834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policy instruments are used?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450720" y="1523880"/>
            <a:ext cx="8352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horthand for policy instruments use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66680" y="1752480"/>
          <a:ext cx="6858000" cy="304812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134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92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Direct regulation: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marL="692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Regulatory policies focused on setting and enforcing mandatory minimum standards and/or labeling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Oversight/support of markets: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Policies focused on building markets; supporting fair trade; and setting, overseeing, and/or guiding voluntary standards and labeling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08000" y="836640"/>
          <a:ext cx="8889840" cy="5769000"/>
        </p:xfrm>
        <a:graphic>
          <a:graphicData uri="http://schemas.openxmlformats.org/drawingml/2006/table">
            <a:tbl>
              <a:tblPr/>
              <a:tblGrid>
                <a:gridCol w="581040"/>
                <a:gridCol w="1366920"/>
                <a:gridCol w="1365120"/>
                <a:gridCol w="1131840"/>
                <a:gridCol w="4444920"/>
              </a:tblGrid>
              <a:tr h="78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ype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wner of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abeling Standard</a:t>
                      </a:r>
                      <a:r>
                        <a:rPr b="1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mary Means of Label Certification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abeling Approach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vate,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or 2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or 2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luntary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duct or process attribute claims on labels by individual companies based on self-declared standards, with self certification by buyer or seller.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vate,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llective 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or 2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luntar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duct or process attribute claims on labels by companies based on collective self-declared standards, with self certification by buyer or seller.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vate,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llective 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luntary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duct or process attribute claims on labels by companies based on collective self-declared standards, with 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 certification.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9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dependent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luntar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duct or process attribute claims on labels by companies based on standards set by independent body (e.g., non-governmental organization, private certification body), with 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 certification.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vernment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vernment or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luntary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duct or process attribute claims on labels by companies based on government standard, with government or 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 certification.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vernment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vernment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ndatory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duct or process attribute claims on labels by companies based on government standard, with government certification.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Rectangle 1"/>
          <p:cNvSpPr/>
          <p:nvPr/>
        </p:nvSpPr>
        <p:spPr>
          <a:xfrm>
            <a:off x="250920" y="-41400"/>
            <a:ext cx="87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  <a:ea typeface="Times New Roman"/>
              </a:rPr>
              <a:t>Which, if any, labeling type?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dcterms:modified xsi:type="dcterms:W3CDTF">2012-05-31T22:39:24Z</dcterms:modified>
  <cp:revision>40</cp:revision>
  <dc:subject/>
  <dc:title>U.S. Policies Affecting Food and Agricultural Marketing</dc:title>
</cp:coreProperties>
</file>